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E1B-2E9C-46AD-8BEE-B5980BF6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4FF-F416-4C44-BCC6-3BE5CE31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02F-7165-41C2-AA38-ED8356A6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B7E-3063-45EA-8A01-941CCB75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F57-01E8-4B3D-B93C-DD7D9054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44E-F282-4198-AE0B-99962B9D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0BA-E6B1-46E4-B496-B2615216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844-1504-4C8F-9B47-7D116F2A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21F-D824-44F1-8583-64B9DF22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460-05E9-4E7B-8216-4AF2C473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4F1-CB48-4D51-AC16-3D035298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E35-A947-46E9-B37C-3EB2EE3D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5265-8540-4C14-876C-2FB281BCC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1 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obotného r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m svitol nový j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sobotného r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m svitol nový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 teba, svojho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nes chváliť každý z 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k z rána rosa kve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dáva sviež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ak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áš v tom dni svätom nás v svojej štedrosti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nes vďaku priniesť chc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tvojej lásky či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 z kríža prijať smi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r odpustenia ví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sám si naše stra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údel niesol rá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v novej rajskej v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s pri sebe chceš m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k tebe priniesť chc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ú hriechov našich tia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ď vykúpenie zri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v tebe, Pán n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dnes o požehn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ťa vrúcne prosí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cestou spásy k cieľ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en teba chválim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synov Božích pr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m vydobyl si spä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 návrat očak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ubolený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v tvojej prítom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as mieru nast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i koniec nepráv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tné zvíta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02:02Z</dcterms:modified>
  <cp:revision>22</cp:revision>
  <dc:subject/>
  <dc:title>Je veľký náš Pán, on slávy je Kráľ Nech do všetkých strán  spev vrúcnych znie chvál.</dc:title>
</cp:coreProperties>
</file>